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8800425" cy="5039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0000" y="2010960"/>
            <a:ext cx="25919640" cy="84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0240"/>
                <a:tab algn="l" pos="8880480"/>
              </a:tabLst>
            </a:pPr>
            <a:endParaRPr b="0" lang="en-US" sz="2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0000" y="11793600"/>
            <a:ext cx="2591964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40000" y="27061920"/>
            <a:ext cx="2591964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0000" y="2010960"/>
            <a:ext cx="25919640" cy="84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0240"/>
                <a:tab algn="l" pos="8880480"/>
              </a:tabLst>
            </a:pPr>
            <a:endParaRPr b="0" lang="en-US" sz="2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0000" y="11793600"/>
            <a:ext cx="1264860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721480" y="11793600"/>
            <a:ext cx="1264860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0000" y="27061920"/>
            <a:ext cx="1264860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4721480" y="27061920"/>
            <a:ext cx="1264860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0000" y="2010960"/>
            <a:ext cx="25919640" cy="84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0240"/>
                <a:tab algn="l" pos="8880480"/>
              </a:tabLst>
            </a:pPr>
            <a:endParaRPr b="0" lang="en-US" sz="2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0000" y="11793600"/>
            <a:ext cx="834588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203480" y="11793600"/>
            <a:ext cx="834588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966960" y="11793600"/>
            <a:ext cx="834588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40000" y="27061920"/>
            <a:ext cx="834588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0203480" y="27061920"/>
            <a:ext cx="834588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8966960" y="27061920"/>
            <a:ext cx="834588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0000" y="2010960"/>
            <a:ext cx="25919640" cy="84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0240"/>
                <a:tab algn="l" pos="8880480"/>
              </a:tabLst>
            </a:pPr>
            <a:endParaRPr b="0" lang="en-US" sz="2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40000" y="11793600"/>
            <a:ext cx="25919640" cy="292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0000" y="2010960"/>
            <a:ext cx="25919640" cy="84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0240"/>
                <a:tab algn="l" pos="8880480"/>
              </a:tabLst>
            </a:pPr>
            <a:endParaRPr b="0" lang="en-US" sz="2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40000" y="11793600"/>
            <a:ext cx="25919640" cy="292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0000" y="2010960"/>
            <a:ext cx="25919640" cy="84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0240"/>
                <a:tab algn="l" pos="8880480"/>
              </a:tabLst>
            </a:pPr>
            <a:endParaRPr b="0" lang="en-US" sz="2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0000" y="11793600"/>
            <a:ext cx="12648600" cy="292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4721480" y="11793600"/>
            <a:ext cx="12648600" cy="292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0000" y="2010960"/>
            <a:ext cx="25919640" cy="84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0240"/>
                <a:tab algn="l" pos="8880480"/>
              </a:tabLst>
            </a:pPr>
            <a:endParaRPr b="0" lang="en-US" sz="2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0000" y="2010960"/>
            <a:ext cx="25919640" cy="390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75"/>
              </a:spcBef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0000" y="2010960"/>
            <a:ext cx="25919640" cy="84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0240"/>
                <a:tab algn="l" pos="8880480"/>
              </a:tabLst>
            </a:pPr>
            <a:endParaRPr b="0" lang="en-US" sz="2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0000" y="11793600"/>
            <a:ext cx="1264860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4721480" y="11793600"/>
            <a:ext cx="12648600" cy="292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40000" y="27061920"/>
            <a:ext cx="1264860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0000" y="2010960"/>
            <a:ext cx="25919640" cy="84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0240"/>
                <a:tab algn="l" pos="8880480"/>
              </a:tabLst>
            </a:pPr>
            <a:endParaRPr b="0" lang="en-US" sz="2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0000" y="11793600"/>
            <a:ext cx="12648600" cy="292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4721480" y="11793600"/>
            <a:ext cx="1264860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1480" y="27061920"/>
            <a:ext cx="1264860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0000" y="2010960"/>
            <a:ext cx="25919640" cy="84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0240"/>
                <a:tab algn="l" pos="8880480"/>
              </a:tabLst>
            </a:pPr>
            <a:endParaRPr b="0" lang="en-US" sz="2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0000" y="11793600"/>
            <a:ext cx="1264860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4721480" y="11793600"/>
            <a:ext cx="1264860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0000" y="27061920"/>
            <a:ext cx="25919640" cy="139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0240"/>
                <a:tab algn="l" pos="8880480"/>
              </a:tabLst>
            </a:pP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"/>
          <p:cNvSpPr/>
          <p:nvPr/>
        </p:nvSpPr>
        <p:spPr>
          <a:xfrm>
            <a:off x="0" y="10274400"/>
            <a:ext cx="28787760" cy="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7" descr="海报_80_140b.jpg"/>
          <p:cNvPicPr/>
          <p:nvPr/>
        </p:nvPicPr>
        <p:blipFill>
          <a:blip r:embed="rId2"/>
          <a:stretch/>
        </p:blipFill>
        <p:spPr>
          <a:xfrm>
            <a:off x="0" y="0"/>
            <a:ext cx="28800360" cy="5040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5" descr="f0c9d166-c365-4bab-b756-d50bfd60ceef"/>
          <p:cNvPicPr/>
          <p:nvPr/>
        </p:nvPicPr>
        <p:blipFill>
          <a:blip r:embed="rId1"/>
          <a:stretch/>
        </p:blipFill>
        <p:spPr>
          <a:xfrm>
            <a:off x="68400" y="43981560"/>
            <a:ext cx="28452600" cy="6418440"/>
          </a:xfrm>
          <a:prstGeom prst="rect">
            <a:avLst/>
          </a:prstGeom>
          <a:ln w="0">
            <a:noFill/>
          </a:ln>
        </p:spPr>
      </p:pic>
      <p:sp>
        <p:nvSpPr>
          <p:cNvPr id="39" name="Line 2"/>
          <p:cNvSpPr/>
          <p:nvPr/>
        </p:nvSpPr>
        <p:spPr>
          <a:xfrm>
            <a:off x="5184720" y="108712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3"/>
          <p:cNvSpPr/>
          <p:nvPr/>
        </p:nvSpPr>
        <p:spPr>
          <a:xfrm>
            <a:off x="68400" y="9286920"/>
            <a:ext cx="28731960" cy="3240"/>
          </a:xfrm>
          <a:prstGeom prst="line">
            <a:avLst/>
          </a:prstGeom>
          <a:ln w="763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3022560" y="4462560"/>
            <a:ext cx="215200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作品名称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作       者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指导教师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216240" y="10399680"/>
            <a:ext cx="21520080" cy="11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作品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技术路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创新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应用效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图片展示等内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本部分要点不限于此，能把作品亮点介绍清楚即可。最好采用图表方式，要求图片清晰，版面整洁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8705600" y="3759120"/>
            <a:ext cx="717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页眉其他部分不允许调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"/>
          <p:cNvSpPr/>
          <p:nvPr/>
        </p:nvSpPr>
        <p:spPr>
          <a:xfrm>
            <a:off x="21054960" y="922320"/>
            <a:ext cx="719280" cy="1191240"/>
          </a:xfrm>
          <a:prstGeom prst="rect">
            <a:avLst/>
          </a:prstGeom>
          <a:solidFill>
            <a:srgbClr val="c4e2e6"/>
          </a:solidFill>
          <a:ln w="9360">
            <a:solidFill>
              <a:srgbClr val="ce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黑体"/>
                <a:ea typeface="黑体"/>
              </a:rPr>
              <a:t>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16994160" y="995400"/>
            <a:ext cx="11842920" cy="1160280"/>
          </a:xfrm>
          <a:prstGeom prst="rect">
            <a:avLst/>
          </a:prstGeom>
          <a:solidFill>
            <a:srgbClr val="c4e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cc"/>
                </a:solidFill>
                <a:latin typeface="黑体"/>
                <a:ea typeface="黑体"/>
              </a:rPr>
              <a:t>第十三届山东省大学生科技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20373120" y="2163600"/>
            <a:ext cx="5057640" cy="1312920"/>
          </a:xfrm>
          <a:prstGeom prst="rect">
            <a:avLst/>
          </a:prstGeom>
          <a:solidFill>
            <a:srgbClr val="c4e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cc"/>
                </a:solidFill>
                <a:latin typeface="黑体"/>
                <a:ea typeface="黑体"/>
              </a:rPr>
              <a:t>物理科技创新大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357120" y="45680400"/>
            <a:ext cx="27995760" cy="3749760"/>
          </a:xfrm>
          <a:prstGeom prst="rect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主办单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山东省科学技术协会、中共山东省委高校工委、      　　　　承办单位：山东物理学会、临沂大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共青团山东省委员会、山东省发展和改革委员会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山东省经济和信息化委员会、山东省教育厅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山东省人力资源和社会保障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7678800" y="37591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贵校校徽等标志，需修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24896160" y="425289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片部分可调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3083"/>
          <p:cNvGrpSpPr/>
          <p:nvPr/>
        </p:nvGrpSpPr>
        <p:grpSpPr>
          <a:xfrm>
            <a:off x="358920" y="428760"/>
            <a:ext cx="12364560" cy="3813120"/>
            <a:chOff x="358920" y="428760"/>
            <a:chExt cx="12364560" cy="3813120"/>
          </a:xfrm>
        </p:grpSpPr>
        <p:pic>
          <p:nvPicPr>
            <p:cNvPr id="51" name="图片 9" descr=""/>
            <p:cNvPicPr/>
            <p:nvPr/>
          </p:nvPicPr>
          <p:blipFill>
            <a:blip r:embed="rId2"/>
            <a:stretch/>
          </p:blipFill>
          <p:spPr>
            <a:xfrm>
              <a:off x="358920" y="428760"/>
              <a:ext cx="3864960" cy="38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1" descr=""/>
            <p:cNvPicPr/>
            <p:nvPr/>
          </p:nvPicPr>
          <p:blipFill>
            <a:blip r:embed="rId3"/>
            <a:stretch/>
          </p:blipFill>
          <p:spPr>
            <a:xfrm>
              <a:off x="4513320" y="1014840"/>
              <a:ext cx="8210160" cy="263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lenovo</dc:creator>
  <dc:description/>
  <dc:language>en-US</dc:language>
  <cp:lastModifiedBy>suncp</cp:lastModifiedBy>
  <dcterms:modified xsi:type="dcterms:W3CDTF">2021-04-04T07:56:02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16</vt:lpwstr>
  </property>
</Properties>
</file>